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E21-25E5-4E0E-956C-13713BC9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06C-32BA-47E9-A458-0934C688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716-DAF9-48F6-A813-B21DFAB9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693-EFB5-4299-9AF0-5D911D4D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14C-CAED-4D55-8E86-5058F3FC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D4B-6206-485A-8AC8-4C8B1643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6EC-97B5-419C-9CD4-366CB925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2C2-2EFD-447C-8EFC-AEA2028C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0F8-68AD-4362-B7A1-0519AD7F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F10-2C73-4548-9769-8DA65FE1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3F8-BA7A-46CE-B0F4-D3A387F0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F3B-6D90-423A-961B-65F78596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7484-4726-4744-BFA1-FCBD60596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5 CP/GHP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Igneous Roc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from crystallized magm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ava = magma that flowed out onto Earth’s surf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gn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tin for “fi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usive (fine-grained, cool quick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usive (course-grained, cool slow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ma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Si, Al, Fe, Mg, Ca, K and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6% of Earth’s curst is silica (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mag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oli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si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al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ma Ori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temperatures: 8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12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thermal, pressure and water content all affect ma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thermal gradient (page 1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curve (page 1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m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Melting – process when some minerals melt while others remain soli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chocolate chips in 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al Crystallization – process of cooling in the reverse order of me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wen’s Reaction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logist Neil L. Bow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form in predictable patter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dspars (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versus iron (Fe) 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bowen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Igneous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Composi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sic - light colored rocks such as granite Mafic – dark colored rocks such as basal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mafic – very high levels of iron, low silica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able 5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Igneous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neous rocks as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e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gmat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mber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6:45:35Z</dcterms:created>
  <dc:creator>staff</dc:creator>
  <dc:description/>
  <dc:language>en-US</dc:language>
  <cp:lastModifiedBy>staff</cp:lastModifiedBy>
  <dcterms:modified xsi:type="dcterms:W3CDTF">2007-11-30T19:23:47Z</dcterms:modified>
  <cp:revision>10</cp:revision>
  <dc:subject/>
  <dc:title>Rocks Ch 5 CP/GHP Book</dc:title>
</cp:coreProperties>
</file>